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660-EF75-4C3C-8561-DADE367A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2A1-8C95-40A8-BDCF-07A2A796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BC71B-E3D5-45CF-88B6-D78D490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B980C-8907-4416-BB6D-A44C3FA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15B90-35CE-4C41-8BBF-2C145BE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29C52-A63F-4470-98A1-7ECC3DDF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74ABA-37DE-423A-BC41-E6F8E48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6CEF-26FF-451D-80E5-044B4E7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F9085-5B92-4D28-9FA7-F5D1FEA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F3D0C-A5FE-40BF-9497-BE1F89B0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C4D4-3589-49B8-B327-8B842455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6DFD-A85D-4348-B591-9C2C3E87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2CB-299D-4029-BE94-514C5365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7E527-B88F-49BF-94D0-9A307B5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198D-6873-4C0E-B835-D8E85107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F0586-42E6-4788-B0AE-2A04A6A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71CA6-A68B-4924-A3C1-35DF326D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6E5D8-18C8-463A-8EDE-EF821D62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B92EB-9108-4949-9EE7-1CEE11F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46FC4-7B70-4D3C-9C06-53CAF02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B1D53-097F-4506-A596-3284A55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B3916-020E-4F16-B447-650BCB5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9C0E8-76AD-4D4A-A0B5-E75C2C26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B55-6FC4-4B92-A137-E1594E8F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BCEE2-BB01-41A1-8A7B-CFC65CCB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4CD5-C665-4A5F-A798-B390994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13D9-8E9B-4A28-AABF-C0DD73C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3E30-2D00-467E-A7E9-AA492167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50F07-6E15-41CF-8B53-49C9880E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1F9F4-9915-41BF-A51A-90DB482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BF820-5B1E-4E02-9A14-E8AED06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DB5C-EAF0-42C2-9FBE-CDB6C74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D807B-8E06-4686-BBF4-F1DCB1D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43DD4-01FD-49E7-885D-254391D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F4FC-4836-465B-B792-7A350A22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44C7-3D3F-4959-90DF-551B37D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A7DDC-72C9-4D7F-A49B-4FBAEE6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3EAAA-972B-4682-AB6D-52DAF024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B562F-D63E-40F2-A6A9-1AD0751F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B33F6-5D18-44C0-8A3A-61452E0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0071A-4B07-43DF-A4C0-B3246D00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1B5BA-271F-41BD-B091-B16AC06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6F096-95FB-48F9-A1B1-13758BE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12689-7872-4B1B-8CE4-FB3CA33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35277-ECD7-4E83-AE50-10F2FF7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00C0-CDCA-4FB0-8FD6-45F5BBA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F773B-DCE6-4829-9963-059D5C0A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C29A0-76D4-4D75-98E5-D212281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7E66C-D7D5-443E-8C6B-60593F96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1B51F-33C3-4EB7-9B20-19F1B254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8A2F5-C99E-4C7B-B86E-14F03DA2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D71AB-D758-4E6D-A7C0-F6DF837F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95034-F8B0-4210-990A-0087CF5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6846F-C80C-4DB6-80C1-EB8BEF3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4411E-E1D5-49F2-A261-89344F7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5C54C-ABDB-4ECC-A51D-809232C0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061C-0B6B-4F0B-955B-AF8888CB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1512C-5F8E-4B58-A467-F517797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DAB25-5F6E-4B47-8AF2-1D9277B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B08D7-979F-43DE-A994-B0ADF0F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32506-513E-4934-9194-EEE25F5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3D0B7-8C9B-4E75-A49B-45C991B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7D822-7F86-4834-9C6D-D895B482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AEEB6-8E0D-495C-BE3A-7BABE682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36A76-9A15-452C-BA20-61457EC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46299-1FEE-4BED-B3CF-037134AD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6EB65-7AD7-451F-849A-633739A9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45F8-DB82-495E-BA85-ADB9823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DF3A3-58C5-46FF-8998-EBBFC75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D91AC-3219-4C4A-B8B2-D21E97B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9103B-979A-4750-AA5E-F6B0856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CC29E-4923-450A-B890-BAD42A2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F1371-478F-4ABE-BB0C-DAD67A5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FA360-6FA6-4388-BD8B-330EA3E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D0D46-6E82-4BCD-A558-D5AAD05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9706D-92E9-47A8-9FA8-CC9F2151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A8F29-D136-4DE2-9627-BA805382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91740-88FF-4E34-BA24-4A95D3DA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A02-F760-4DFB-B57D-707BDE0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A5E60-70FC-4E7E-87C4-2A39FFCD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6B377-4C3D-433B-A213-EC5AAAA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7718D-E902-4685-9C72-C579DE9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6A9CD-C093-4E7F-97C3-2163BC4C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57387-11B9-4BB6-8342-146E73C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ACE0A-9832-42BF-A91C-D3C69F7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039FC-4DD2-4BA4-8272-51A6CBD6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80C66-09C9-4393-8CFA-B0B6BC9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1CC63-B066-4BE1-BA0D-C3B4D40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5547A-384A-41E2-B45C-F228036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FF02-3C96-4AA5-A884-F7B1F6EE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E2B67-5C04-4FBD-99A3-5E55EFC7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EBF64-6FB5-4337-B264-11A0CABD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E0FBF-7CFD-4FC9-8A71-8F49E48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B1C0C-2D84-4D0A-828B-A5609D2D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2FE30-46CB-40DB-B74C-8D3DAED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A0B74-20E8-40B3-B02F-7BBBED7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574EE-34A7-402F-B099-54730C0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8E90E-DB39-4D9E-BE84-D1C75D3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8BBD0-4B9F-4979-B5F2-D034C41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AB5D5-2D3C-4DD2-9DE5-86072F9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9328-553B-4A59-A873-53D06E6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40CB6-BC57-42F7-AB5C-099880F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D1E3A-1DE8-4A32-9C6D-12A2D672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C2098-B7B6-45F7-8973-1FA8CDD0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46C62-3463-478D-9588-38590703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30FC0-2D7D-4AE9-8CD6-C486EA09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673D9-8296-4849-BC5C-6C05E6CF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3ED80-F3C6-45CD-8D40-3F48A876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5E880-9C89-447F-9E51-6DC82A1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AB636-8C90-4797-A038-FB7EC93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309B0-F47F-421B-9256-A29817B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2C8-BD93-4207-AF19-E2F6FDA5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9BAF-4DC4-444B-8215-E911DAC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85A29-DF06-48A3-9B96-A56B883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43A82-4F52-4BDB-992E-7F7CEB6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479C9-7F23-48A0-B3B8-80CC86B4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89564-F1B0-47AD-9468-587E9D76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9975E-D402-457D-81F3-99ABC173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C2AF7-38FE-4EAE-9A8E-78E6E0D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89F77-421B-4E1D-B05D-E4A34C9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72FFF-A79E-474F-8382-686EBB3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3DBD1-4ACC-4301-9B28-C5EE34A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815E4-8C7E-47FE-9DDD-FE2A1B1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45C-29EB-4192-B87B-EA5AF02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5684A-879E-4777-9A99-9BCEA768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42CF1-E6D1-4A21-9D77-20E5475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13063-C442-4897-AD10-3CC9458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3C6FF-0064-49ED-8166-90B24E5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AA1CD-954E-45E6-8097-CC20EBD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0247C-3A72-49EC-9B01-709C4211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5FDB6-C258-4020-AD82-D07BC9B2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3457F-42BD-4CEE-A0F8-C1591891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0F198-267B-45F3-8BE2-7FA88E9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397EE-ADC0-4C4A-8FB7-22D08B6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6D9-7063-40CF-8E80-BDA23DEA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50DFC-F050-44C6-BE41-2CEB143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683AC-C01F-4A9E-8935-509D7E1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6E0B5-7F61-47D9-A91F-3524D55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704ED-1449-4041-AFEA-8CF7289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A071F-C64E-41C2-91FD-7F8EA7E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1F945-0836-4B3A-89B6-793CA9A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5188D-80FB-46CB-9E61-E299548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B9ABA-92C9-4866-B4EA-FCD2A8D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8B2AF-C8F2-4A8C-8556-CD6ABC6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68407-C18A-44E1-9E1F-B59348AB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E80-813C-483A-89EB-CC316B9D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AFCDC-B508-4C65-979E-37948227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2F0A3-3A39-4BF4-98D7-2958FD72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75565-1A47-4D47-8094-A9B8B4A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A9694-7FE2-4375-8613-DADE93B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F2BB2-3458-4C54-A9B4-986C067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778C7-0955-4843-8A37-CA9D9B6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61CBF-BEC0-442C-82DC-A33124E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79F67-9F8C-4ACB-8DF9-6F6CE2B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85069-46A8-4F5D-8177-08B78B5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B9234-0306-475A-8397-EF913FC3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CF5-A745-45FB-A978-1D731EB7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F7221-9CDA-4DB6-833A-C9F656BE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505E7-85F5-45AC-BB00-1A19D32B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AD928-4733-469C-A768-E159BE0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17880-FB63-47D4-BED1-9A4C33A5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0E0964-DC35-4646-A7C5-67F7F75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EC014-22C4-4D79-8BBD-03209648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66810-8A30-4800-AA1F-DAB1954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BB00E-97B0-4EAD-B1F9-D22951F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8D073-5CDB-408A-8663-CA988B1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59CB0-41DC-429F-AA5A-6E2B9A7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12C9-49BE-42DC-AB3F-D5933C6E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F0DF9-F888-4708-82AD-7B34684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35015-B9FE-491B-8E28-E98076E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74A80-50BD-4751-B45D-0E206DA9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ED78-4FCA-41E8-B48D-7BFD4C5B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97EE-06D5-48CF-A820-040830B5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0000-D2B2-4D66-9B57-6485A29D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64D9-90F4-46FC-9239-23EA701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5FC-E55B-488B-B909-7C1AD2E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E9E8-F131-4070-8D1E-A4112D2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BF7F-D5FA-4230-9E8F-ED38FFB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6C63-2BC5-411A-8FE9-31403BE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6E87-0CB5-4454-ACD0-A615745A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EB37-4323-48D9-B1E1-8603BB8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86D4-9ACE-4F4D-95FB-40C40AB2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1734-7263-4CAB-9BE6-928394C4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78A7-43C0-4AC0-B385-B36085B5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6EBC-B1BB-4139-94DB-19475FE6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7238-F319-4546-98AE-4F58420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696-8AE3-43BD-AAF9-EDD5FF2F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55AB-D218-451E-8420-6F33C919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BE36-0973-402E-B442-7D0914E7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CD0C-5367-4B32-AF93-D4AF584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EB8D-9A97-4C42-ABF4-386F48F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04F3-60D4-4D95-BB9F-3AD2197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84AB-117B-4535-A25B-8D0CCF9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CAB4-4B75-479B-BDF7-6C95A39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AB87-2141-4E9F-91B2-CBB2C2FB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7888-303A-43FA-8FBE-470129FB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CC25-8725-4A3C-91E3-A615FD77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DE8-637A-49AD-B7AF-B1C303E7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E359-DBC1-42FC-B5A7-8530779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AE8A-7BCE-456F-A8C3-2F6FDEB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C8BA-1147-426F-A5E3-DCBC3666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A0EA5-798B-4D07-AA1E-5B9BA86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D35F-7871-4496-A363-ADCAE67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004A-C872-4F6B-8D28-1F892AF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5CAC-62D2-4FD5-8B46-81FC893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4318E-8898-4294-8931-8F3A03B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6748-0BCF-40CD-B128-185D4162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C876-D125-410F-BC53-DF9CF6AB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3BA-209E-4294-B775-E4B43A1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AF38-0106-4708-B73C-47758F45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E01A-A82E-4508-8113-BDAF963A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03ED-7AD1-47DA-8773-B80F9228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C645-6C16-4CBF-83AB-A15AF93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E1B1-8B9C-41C2-93AA-6688305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D921-02C9-41C6-9B0B-903AAAD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63E8D-078F-4A90-B6E0-26B8D36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DC6B-4AF7-4677-9AC1-0AA6F16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BCE8-4A15-4191-B426-A29016B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1891-E725-471F-A661-ABB4DFB6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E53-EBE2-470C-B51C-F853BBE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9708-0A79-490B-9E82-5354F3E3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236B-6130-4BB8-82FA-511A451D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FF29E-62D4-4998-98E6-57901EAF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23AD-A4B4-4799-AC6B-65D55D0D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E5E4-C9CB-467E-A642-C544D1E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2FCD-2BBD-49FE-88F4-2EA10FD9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D27C-99DA-4D71-96B2-9A64848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9516-AEA4-4E09-A962-9C5CC24A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242F-9193-44E2-8EC9-5ADEC48E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11FC7-A398-4E93-B87C-2D53084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9E1-8382-4A0B-A2B2-920F1C6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C5E3-0F3D-492E-8EC7-1A37D2C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E80D-6BE1-400D-AD0A-B9D88D2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09131-E565-4F70-A15E-C1914DEE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5502-77C8-49E0-AC30-5E651708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733C-7A4B-434B-89EF-6D08EECB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48BE-5B68-4D32-917B-48DBE80D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D3D3-6BA4-474C-B02B-167661C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FF7E-BB81-4D0C-B3AD-B8196697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C2232-D64B-4526-A2AC-B2936856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97DE-55D1-4EBE-8E58-349CB96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FA0-062D-499D-8780-A4ED060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2140-F177-4B6C-B79E-68F57D1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B312-2702-4448-A3A9-415633F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5CBB-3E1B-496B-8EE1-535CA1E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A1E7-B7AA-45E3-8163-0C965E8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920C-FE2B-4703-B1E2-1E4FB85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2F630-86D7-4979-9A19-C717B9B2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8D2C-1874-4502-B0E5-8079D4E0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75421-FEE8-4C56-B1AA-67FB8832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8D975-1135-4751-A058-9F3FB5AD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46478-CD08-4060-8748-4C889135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872-FCA6-4216-BCFF-31B11032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6A6C-BD94-4B90-9F64-4C041A25B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F465-1539-4FAF-A192-FB3630B55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A48-E8AA-489D-B378-04C2A368D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1E55-A6B7-44C3-B325-79B0E0813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4245-A45A-4461-A759-5D1FA3842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894-2FF1-4598-9C51-D4AFFE6DA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B1A2-EAAD-4D9B-A632-48D98E76E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04C-4391-4274-A0B2-484269F03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C98-20E0-4512-9FC5-259E146C6A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269-A669-44CC-8118-FBC6265C1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B09D-904F-4555-A8EB-D430A160C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E7C-FE4B-48C3-9A08-C30EF963C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2D05-C2F0-43D3-9518-074346F0A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FC79-84F8-4545-8D86-55BA8D733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1BA9-18EB-41EF-A13E-38D582FB5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09B-BCD4-4381-B7AB-837DCE05F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74F5-F55E-4B7B-9A8C-C05FCF6E7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1432-356A-429B-9F71-87712A2DB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5444-7924-470D-B866-5E0921671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94D-4BA0-4A3A-8061-61841C7D7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AF5C-FDC7-4E96-8DCF-2FAB644EC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C70-9314-466A-B072-50D6F4D08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D00-6723-4E09-9BBA-710EC95E6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C7D7-DE16-4665-BCE9-2AA5511B3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A33-774C-4A3F-A3A7-2FDCE4FEC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331D-9A0A-4C32-9151-E8BDC3906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C7C-E0F3-47BD-97C7-FB99F57C1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1F0-B555-444D-8E62-DD9FBF1C9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37B-2AA7-4CB7-BD4D-3390A5E93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BAC-756D-4D76-AABD-022F1B0B1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964-7AC6-465D-ACA1-3AE9E7611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522B-B238-4698-85AF-BF02BA19C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7D2-3E12-4CE1-A74B-C4F88DFE2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87D7-1CCB-4A96-847C-32799F6DB7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F157-5935-46CA-AE6F-345D14F6E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6F1B-C120-4AC6-B6E8-5FC6FCBF1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22B-4F46-45A9-AF0D-9B0B47330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048-C05F-40E7-B17E-EEC97183D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1502-4789-474D-83DA-F0E309794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500040" y="3174840"/>
            <a:ext cx="785808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00120" y="914400"/>
            <a:ext cx="7943760" cy="5657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63640" y="3567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63640" y="486900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609480" y="714240"/>
            <a:ext cx="7925040" cy="6134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4716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404640" y="1095480"/>
            <a:ext cx="8334720" cy="5191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763640" y="183816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763640" y="24861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1763640" y="30686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6"/>
          <a:stretch/>
        </p:blipFill>
        <p:spPr>
          <a:xfrm>
            <a:off x="1763640" y="450360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838080" y="857160"/>
            <a:ext cx="7467840" cy="5038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1038240" y="6076800"/>
            <a:ext cx="5676840" cy="495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1332000" y="90792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1258920" y="2205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5"/>
          <a:stretch/>
        </p:blipFill>
        <p:spPr>
          <a:xfrm>
            <a:off x="1332000" y="414972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6"/>
          <a:stretch/>
        </p:blipFill>
        <p:spPr>
          <a:xfrm>
            <a:off x="1403280" y="608652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666720" y="928800"/>
            <a:ext cx="78105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695160" y="1133640"/>
            <a:ext cx="7753680" cy="515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2340000" y="18558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2340000" y="25178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2340000" y="44625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2340000" y="57484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504720" y="1095480"/>
            <a:ext cx="8134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814320" y="1252440"/>
            <a:ext cx="7515360" cy="4533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1258920" y="1911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4"/>
          <a:stretch/>
        </p:blipFill>
        <p:spPr>
          <a:xfrm>
            <a:off x="1258920" y="2565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5"/>
          <a:stretch/>
        </p:blipFill>
        <p:spPr>
          <a:xfrm>
            <a:off x="1258920" y="386064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6"/>
          <a:stretch/>
        </p:blipFill>
        <p:spPr>
          <a:xfrm>
            <a:off x="1258920" y="45752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